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7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notesSlide37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2DEAE-D8BE-4F82-9659-B620BCE510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for going from a shared exon range to a non-shared exon ran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s a bunch of lookup queries as well not included here. Also an exon range change can very possible trigger a transcript &amp; gene range change - not shown here(there would be Apollo transactions for that as well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makes clear why its hard to go from Chado transactions to Apollo transactions - how can you tell which Chado transactions get lumped into an Apollo transaction? Theres no way to add anything to Chado transactions to indicate as much (no compound transaction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orducing compound transaction concept as well with 1 edit to 2 Apollo tr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route is not being used or tested (an abandoned rice route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ere actually implementing this strategy for rice/gmod, but Guanming recoginized it was pretty easy given the Chado transaction to just write out sql and do jdbc writeba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etheless for debugging purposes the Chado transaction xml is really hand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fact Chado xml transactions and Chado sql and java Chado transactions are all just different manifestations of an operation on a Chado ro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ing tested &amp; debugged for rice Chado proje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've fixed a lot of bugs here - its in pretty good shap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xample is name adapter gets a gene name edit and then changes the names of transcripts, proteins and ex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undo purposes name transactions are lumped into one compound transaction(covered in next slid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 adapter slide is an example of an edit that causes a compound transaction - gene name edit causes transcript exon &amp; protein names to be chang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actions use the Command design pattern - which yields un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’re assuming all of you in the audience are familiar with Apollo, GMOD’s annotation curation too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browse: view annotations (as GIF in web pag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ollo: view, edit, create annotations based on computational results; lets you modify transcript structures and edit auxiliary information associated with annot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ollo is a Java application.  Easy to install on your compu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oal with the jdbc reader is to become fully configurable, so you don’t have to write java to configure (similar to name adap go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ntion that game.dtd is inaccurate and should be ignored—use game.rng inst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alking through this slide, mention that Mark will discuss the first two points and then Nomi will talk about the ChadoXML adapter, recent minor improvements and future pl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’d like more feedback from the Apollo community about what they’d like to see in Apollo—talk to us or send us emai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ne action -&gt; many trans is the motivation for compound trans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s pretty good but not perfect yet… some redundant edits still get through - not the end of the world just means a few extra commits to the data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Have to coalesce at commit time not during editing session for undo to work proper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1BE29-8A11-47EF-A9CD-3A3DFB953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8716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B9030-F180-4F74-A3BC-90BDE6355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871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871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1EFBA-61DA-42C1-9827-530B6199E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8716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8716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8716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29D45-A52C-4665-AA75-CF05175E4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8BB51-504C-411A-A5CD-1E2B90161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89C11-7CC3-4BC3-A83E-09672C69D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5BD36-6EF8-43AF-94DA-8B9CAA4EA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C9E6A-95E5-4613-A48F-AA24515D4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65543-368A-462C-B0DA-FD71A2F86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871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7DDD6-DF79-474F-96A6-5513EFEEA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871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A65DD-6CC1-432D-BE92-C69786661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8716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6AA46-7701-4527-92C4-C12643AC7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AFCE4-830D-46B8-8AB3-392ADD5AC5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pollo progr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304920"/>
            <a:ext cx="85345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pollo Progress Report</a:t>
            </a:r>
            <a:br>
              <a:rPr sz="44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mi Harris and Mark Gibson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rkeley Drosophila Genome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5791320"/>
            <a:ext cx="74674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MOD Meeting, S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y 16-17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219320" y="2362320"/>
            <a:ext cx="671832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im save for trans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ves transactions in separate xml 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ME &amp; Chado XML adapters save trans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pends on accompanying data fi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057400" y="1790640"/>
            <a:ext cx="1066680" cy="68580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ag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trans lis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31" idx="6"/>
            <a:endCxn id="132" idx="1"/>
          </p:cNvCxnSpPr>
          <p:nvPr/>
        </p:nvCxnSpPr>
        <p:spPr>
          <a:xfrm>
            <a:off x="5105520" y="2133360"/>
            <a:ext cx="91512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3886200" y="1676520"/>
            <a:ext cx="1219320" cy="91440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ap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3" name=""/>
          <p:cNvCxnSpPr>
            <a:stCxn id="129" idx="3"/>
            <a:endCxn id="131" idx="2"/>
          </p:cNvCxnSpPr>
          <p:nvPr/>
        </p:nvCxnSpPr>
        <p:spPr>
          <a:xfrm>
            <a:off x="3123720" y="2133360"/>
            <a:ext cx="76284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32" name=""/>
          <p:cNvSpPr/>
          <p:nvPr/>
        </p:nvSpPr>
        <p:spPr>
          <a:xfrm>
            <a:off x="6019920" y="1714680"/>
            <a:ext cx="1523880" cy="838080"/>
          </a:xfrm>
          <a:prstGeom prst="foldedCorner">
            <a:avLst>
              <a:gd name="adj" fmla="val 125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ransa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X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interim sav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do Trans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62120" y="25909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form Apollo Transaction to Chado Trans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to ma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038480" y="1668600"/>
            <a:ext cx="1143000" cy="7617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for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1706400"/>
            <a:ext cx="1066680" cy="68580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ag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trans lis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867280" y="1706400"/>
            <a:ext cx="1067040" cy="68580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a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jav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37" idx="3"/>
            <a:endCxn id="136" idx="2"/>
          </p:cNvCxnSpPr>
          <p:nvPr/>
        </p:nvCxnSpPr>
        <p:spPr>
          <a:xfrm>
            <a:off x="3352320" y="2049120"/>
            <a:ext cx="68652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0" name=""/>
          <p:cNvCxnSpPr>
            <a:stCxn id="136" idx="6"/>
            <a:endCxn id="138" idx="1"/>
          </p:cNvCxnSpPr>
          <p:nvPr/>
        </p:nvCxnSpPr>
        <p:spPr>
          <a:xfrm>
            <a:off x="5181120" y="2049120"/>
            <a:ext cx="68652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1" name=""/>
          <p:cNvSpPr/>
          <p:nvPr/>
        </p:nvSpPr>
        <p:spPr>
          <a:xfrm>
            <a:off x="5257800" y="236232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on Range Change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4419720"/>
            <a:ext cx="77724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user edit to many Apollo trans. (compoun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Apollo transactions to many Chado tra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do exons are sha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do lookups not inclu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828800" y="1828800"/>
            <a:ext cx="1523880" cy="83808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on Ran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an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ollo trans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81480" y="2666880"/>
            <a:ext cx="1371600" cy="83844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sert N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ea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ationsh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705720" y="1219320"/>
            <a:ext cx="1371600" cy="76176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sert Ex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ea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0" y="2133720"/>
            <a:ext cx="1371600" cy="76176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se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eatureLo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876920" y="1219320"/>
            <a:ext cx="1371600" cy="76176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te O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ea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ationsh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981080"/>
            <a:ext cx="1143000" cy="7621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for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0" name=""/>
          <p:cNvCxnSpPr>
            <a:stCxn id="144" idx="3"/>
            <a:endCxn id="149" idx="2"/>
          </p:cNvCxnSpPr>
          <p:nvPr/>
        </p:nvCxnSpPr>
        <p:spPr>
          <a:xfrm>
            <a:off x="3352320" y="2247840"/>
            <a:ext cx="229320" cy="115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1" name=""/>
          <p:cNvCxnSpPr>
            <a:stCxn id="149" idx="6"/>
            <a:endCxn id="146" idx="1"/>
          </p:cNvCxnSpPr>
          <p:nvPr/>
        </p:nvCxnSpPr>
        <p:spPr>
          <a:xfrm flipV="1">
            <a:off x="4724280" y="1599480"/>
            <a:ext cx="1982160" cy="762840"/>
          </a:xfrm>
          <a:prstGeom prst="curvedConnector5">
            <a:avLst>
              <a:gd name="adj1" fmla="val 83560"/>
              <a:gd name="adj2" fmla="val 50000"/>
              <a:gd name="adj3" fmla="val 835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49" idx="6"/>
            <a:endCxn id="148" idx="1"/>
          </p:cNvCxnSpPr>
          <p:nvPr/>
        </p:nvCxnSpPr>
        <p:spPr>
          <a:xfrm flipV="1">
            <a:off x="4724280" y="1599480"/>
            <a:ext cx="153360" cy="762840"/>
          </a:xfrm>
          <a:prstGeom prst="curvedConnector5">
            <a:avLst>
              <a:gd name="adj1" fmla="val 49882"/>
              <a:gd name="adj2" fmla="val 50000"/>
              <a:gd name="adj3" fmla="val 4988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49" idx="6"/>
            <a:endCxn id="147" idx="1"/>
          </p:cNvCxnSpPr>
          <p:nvPr/>
        </p:nvCxnSpPr>
        <p:spPr>
          <a:xfrm>
            <a:off x="4723920" y="2361960"/>
            <a:ext cx="2134440" cy="15300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4" name=""/>
          <p:cNvCxnSpPr>
            <a:stCxn id="149" idx="6"/>
            <a:endCxn id="145" idx="1"/>
          </p:cNvCxnSpPr>
          <p:nvPr/>
        </p:nvCxnSpPr>
        <p:spPr>
          <a:xfrm>
            <a:off x="4724280" y="2361960"/>
            <a:ext cx="457920" cy="724680"/>
          </a:xfrm>
          <a:prstGeom prst="curvedConnector5">
            <a:avLst>
              <a:gd name="adj1" fmla="val 49960"/>
              <a:gd name="adj2" fmla="val 50000"/>
              <a:gd name="adj3" fmla="val 499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5" name=""/>
          <p:cNvSpPr/>
          <p:nvPr/>
        </p:nvSpPr>
        <p:spPr>
          <a:xfrm>
            <a:off x="457200" y="2057400"/>
            <a:ext cx="1066680" cy="91440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r Ed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on Ran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an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828800" y="3200400"/>
            <a:ext cx="1600200" cy="91440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nscri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ange Chan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ollo trans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733920" y="3276720"/>
            <a:ext cx="1143000" cy="7617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for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8" name=""/>
          <p:cNvCxnSpPr>
            <a:stCxn id="155" idx="3"/>
            <a:endCxn id="144" idx="1"/>
          </p:cNvCxnSpPr>
          <p:nvPr/>
        </p:nvCxnSpPr>
        <p:spPr>
          <a:xfrm flipV="1">
            <a:off x="1523520" y="2247480"/>
            <a:ext cx="305640" cy="267120"/>
          </a:xfrm>
          <a:prstGeom prst="curvedConnector5">
            <a:avLst>
              <a:gd name="adj1" fmla="val 50000"/>
              <a:gd name="adj2" fmla="val 49932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9" name=""/>
          <p:cNvCxnSpPr>
            <a:stCxn id="155" idx="3"/>
            <a:endCxn id="156" idx="1"/>
          </p:cNvCxnSpPr>
          <p:nvPr/>
        </p:nvCxnSpPr>
        <p:spPr>
          <a:xfrm>
            <a:off x="1523520" y="2514240"/>
            <a:ext cx="305640" cy="114372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6" idx="3"/>
            <a:endCxn id="157" idx="2"/>
          </p:cNvCxnSpPr>
          <p:nvPr/>
        </p:nvCxnSpPr>
        <p:spPr>
          <a:xfrm>
            <a:off x="3428640" y="3657240"/>
            <a:ext cx="305640" cy="10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7" idx="6"/>
          </p:cNvCxnSpPr>
          <p:nvPr/>
        </p:nvCxnSpPr>
        <p:spPr>
          <a:xfrm>
            <a:off x="4876920" y="3657600"/>
            <a:ext cx="457920" cy="381600"/>
          </a:xfrm>
          <a:prstGeom prst="curvedConnector5">
            <a:avLst>
              <a:gd name="adj1" fmla="val 49960"/>
              <a:gd name="adj2" fmla="val 49952"/>
              <a:gd name="adj3" fmla="val 499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334120" y="3733920"/>
            <a:ext cx="1371600" cy="68580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d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eatureLo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do Roundtrip Op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467480" y="5486400"/>
            <a:ext cx="1219320" cy="990720"/>
          </a:xfrm>
          <a:prstGeom prst="can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do D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286000" y="1790640"/>
            <a:ext cx="990720" cy="609840"/>
          </a:xfrm>
          <a:prstGeom prst="foldedCorner">
            <a:avLst>
              <a:gd name="adj" fmla="val 12500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736800" y="1752480"/>
            <a:ext cx="1371600" cy="685800"/>
          </a:xfrm>
          <a:prstGeom prst="ellipse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2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2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095880" y="3021120"/>
            <a:ext cx="990720" cy="609480"/>
          </a:xfrm>
          <a:prstGeom prst="foldedCorner">
            <a:avLst>
              <a:gd name="adj" fmla="val 12500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7" idx="3"/>
            <a:endCxn id="169" idx="2"/>
          </p:cNvCxnSpPr>
          <p:nvPr/>
        </p:nvCxnSpPr>
        <p:spPr>
          <a:xfrm>
            <a:off x="7086600" y="3325320"/>
            <a:ext cx="5724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70" name=""/>
          <p:cNvCxnSpPr>
            <a:stCxn id="165" idx="3"/>
            <a:endCxn id="166" idx="2"/>
          </p:cNvCxnSpPr>
          <p:nvPr/>
        </p:nvCxnSpPr>
        <p:spPr>
          <a:xfrm>
            <a:off x="3276720" y="2095200"/>
            <a:ext cx="4608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71" name=""/>
          <p:cNvCxnSpPr>
            <a:stCxn id="166" idx="6"/>
            <a:endCxn id="167" idx="0"/>
          </p:cNvCxnSpPr>
          <p:nvPr/>
        </p:nvCxnSpPr>
        <p:spPr>
          <a:xfrm>
            <a:off x="5108040" y="2095200"/>
            <a:ext cx="1483560" cy="926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69" name=""/>
          <p:cNvSpPr/>
          <p:nvPr/>
        </p:nvSpPr>
        <p:spPr>
          <a:xfrm>
            <a:off x="7658280" y="3021120"/>
            <a:ext cx="838080" cy="60948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2" name=""/>
          <p:cNvCxnSpPr>
            <a:stCxn id="173" idx="0"/>
            <a:endCxn id="174" idx="4"/>
          </p:cNvCxnSpPr>
          <p:nvPr/>
        </p:nvCxnSpPr>
        <p:spPr>
          <a:xfrm flipV="1">
            <a:off x="990360" y="2534760"/>
            <a:ext cx="100440" cy="1054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75" name=""/>
          <p:cNvSpPr/>
          <p:nvPr/>
        </p:nvSpPr>
        <p:spPr>
          <a:xfrm>
            <a:off x="3730680" y="5527440"/>
            <a:ext cx="1384560" cy="908280"/>
          </a:xfrm>
          <a:prstGeom prst="ellipse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DB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ap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8520" y="1641240"/>
            <a:ext cx="1384560" cy="908280"/>
          </a:xfrm>
          <a:prstGeom prst="ellipse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ap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94600" y="2871720"/>
            <a:ext cx="1705320" cy="908280"/>
          </a:xfrm>
          <a:prstGeom prst="ellipse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dox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ap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7" name=""/>
          <p:cNvCxnSpPr>
            <a:stCxn id="176" idx="6"/>
            <a:endCxn id="167" idx="1"/>
          </p:cNvCxnSpPr>
          <p:nvPr/>
        </p:nvCxnSpPr>
        <p:spPr>
          <a:xfrm>
            <a:off x="5272200" y="3325320"/>
            <a:ext cx="8244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78" name=""/>
          <p:cNvCxnSpPr>
            <a:stCxn id="173" idx="1"/>
            <a:endCxn id="173" idx="2"/>
          </p:cNvCxnSpPr>
          <p:nvPr/>
        </p:nvCxnSpPr>
        <p:spPr>
          <a:xfrm>
            <a:off x="1752120" y="398916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79" name=""/>
          <p:cNvCxnSpPr>
            <a:stCxn id="173" idx="3"/>
            <a:endCxn id="176" idx="2"/>
          </p:cNvCxnSpPr>
          <p:nvPr/>
        </p:nvCxnSpPr>
        <p:spPr>
          <a:xfrm flipV="1">
            <a:off x="1752120" y="3325320"/>
            <a:ext cx="1869480" cy="664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180" name=""/>
          <p:cNvGrpSpPr/>
          <p:nvPr/>
        </p:nvGrpSpPr>
        <p:grpSpPr>
          <a:xfrm>
            <a:off x="228600" y="3456000"/>
            <a:ext cx="1523880" cy="1066680"/>
            <a:chOff x="228600" y="3456000"/>
            <a:chExt cx="1523880" cy="1066680"/>
          </a:xfrm>
        </p:grpSpPr>
        <p:sp>
          <p:nvSpPr>
            <p:cNvPr id="173" name=""/>
            <p:cNvSpPr/>
            <p:nvPr/>
          </p:nvSpPr>
          <p:spPr>
            <a:xfrm>
              <a:off x="228600" y="3456000"/>
              <a:ext cx="1523880" cy="1066680"/>
            </a:xfrm>
            <a:prstGeom prst="bevel">
              <a:avLst>
                <a:gd name="adj" fmla="val 125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83920" y="3804840"/>
              <a:ext cx="813240" cy="368280"/>
            </a:xfrm>
            <a:prstGeom prst="rect">
              <a:avLst/>
            </a:prstGeom>
            <a:solidFill>
              <a:srgbClr val="fbdf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poll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" name=""/>
          <p:cNvSpPr/>
          <p:nvPr/>
        </p:nvSpPr>
        <p:spPr>
          <a:xfrm>
            <a:off x="3408840" y="4232160"/>
            <a:ext cx="2028960" cy="90828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doTr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ap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3" name=""/>
          <p:cNvCxnSpPr>
            <a:stCxn id="173" idx="4"/>
            <a:endCxn id="182" idx="2"/>
          </p:cNvCxnSpPr>
          <p:nvPr/>
        </p:nvCxnSpPr>
        <p:spPr>
          <a:xfrm>
            <a:off x="1752120" y="3989520"/>
            <a:ext cx="1683720" cy="697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84" name=""/>
          <p:cNvCxnSpPr>
            <a:stCxn id="182" idx="6"/>
            <a:endCxn id="185" idx="1"/>
          </p:cNvCxnSpPr>
          <p:nvPr/>
        </p:nvCxnSpPr>
        <p:spPr>
          <a:xfrm>
            <a:off x="5410080" y="4686120"/>
            <a:ext cx="457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endCxn id="175" idx="2"/>
          </p:cNvCxnSpPr>
          <p:nvPr/>
        </p:nvCxnSpPr>
        <p:spPr>
          <a:xfrm>
            <a:off x="990720" y="4572000"/>
            <a:ext cx="2769120" cy="1410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87" name=""/>
          <p:cNvCxnSpPr>
            <a:stCxn id="175" idx="6"/>
            <a:endCxn id="164" idx="2"/>
          </p:cNvCxnSpPr>
          <p:nvPr/>
        </p:nvCxnSpPr>
        <p:spPr>
          <a:xfrm>
            <a:off x="5086440" y="5981400"/>
            <a:ext cx="2381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5" name=""/>
          <p:cNvSpPr/>
          <p:nvPr/>
        </p:nvSpPr>
        <p:spPr>
          <a:xfrm>
            <a:off x="5867280" y="4381560"/>
            <a:ext cx="1295640" cy="609480"/>
          </a:xfrm>
          <a:prstGeom prst="foldedCorner">
            <a:avLst>
              <a:gd name="adj" fmla="val 125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adoTran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5" idx="0"/>
            <a:endCxn id="169" idx="3"/>
          </p:cNvCxnSpPr>
          <p:nvPr/>
        </p:nvCxnSpPr>
        <p:spPr>
          <a:xfrm flipV="1">
            <a:off x="6515280" y="3540960"/>
            <a:ext cx="1265760" cy="840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9" name=""/>
          <p:cNvCxnSpPr>
            <a:stCxn id="165" idx="1"/>
            <a:endCxn id="174" idx="6"/>
          </p:cNvCxnSpPr>
          <p:nvPr/>
        </p:nvCxnSpPr>
        <p:spPr>
          <a:xfrm flipH="1">
            <a:off x="1753560" y="2095200"/>
            <a:ext cx="532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90" name=""/>
          <p:cNvCxnSpPr>
            <a:stCxn id="169" idx="4"/>
            <a:endCxn id="164" idx="1"/>
          </p:cNvCxnSpPr>
          <p:nvPr/>
        </p:nvCxnSpPr>
        <p:spPr>
          <a:xfrm>
            <a:off x="8076960" y="3630240"/>
            <a:ext cx="1080" cy="185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</p:spTree>
  </p:cSld>
  <p:transition>
    <p:zoom dir="in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do Transaction Writeb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2792520"/>
            <a:ext cx="7772400" cy="37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do transaction object gets written out as Chado X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ORT commits XML to Chado D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838080" y="1866960"/>
            <a:ext cx="1067040" cy="68580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a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jav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867280" y="1828800"/>
            <a:ext cx="1143000" cy="7621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38280" y="1828800"/>
            <a:ext cx="1143000" cy="7621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ado Tr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ML Wri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6" name=""/>
          <p:cNvCxnSpPr>
            <a:stCxn id="193" idx="3"/>
            <a:endCxn id="195" idx="2"/>
          </p:cNvCxnSpPr>
          <p:nvPr/>
        </p:nvCxnSpPr>
        <p:spPr>
          <a:xfrm>
            <a:off x="1904760" y="2209320"/>
            <a:ext cx="5338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"/>
          <p:cNvCxnSpPr>
            <a:stCxn id="195" idx="6"/>
            <a:endCxn id="198" idx="1"/>
          </p:cNvCxnSpPr>
          <p:nvPr/>
        </p:nvCxnSpPr>
        <p:spPr>
          <a:xfrm>
            <a:off x="3581280" y="2209320"/>
            <a:ext cx="6105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9" name=""/>
          <p:cNvCxnSpPr>
            <a:stCxn id="198" idx="3"/>
          </p:cNvCxnSpPr>
          <p:nvPr/>
        </p:nvCxnSpPr>
        <p:spPr>
          <a:xfrm>
            <a:off x="5333760" y="2209320"/>
            <a:ext cx="5338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0" name=""/>
          <p:cNvCxnSpPr>
            <a:stCxn id="194" idx="6"/>
            <a:endCxn id="201" idx="2"/>
          </p:cNvCxnSpPr>
          <p:nvPr/>
        </p:nvCxnSpPr>
        <p:spPr>
          <a:xfrm>
            <a:off x="7010280" y="2209320"/>
            <a:ext cx="6105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2" name=""/>
          <p:cNvSpPr/>
          <p:nvPr/>
        </p:nvSpPr>
        <p:spPr>
          <a:xfrm>
            <a:off x="8461440" y="16524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620120" y="1866960"/>
            <a:ext cx="914400" cy="685800"/>
          </a:xfrm>
          <a:prstGeom prst="can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a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191120" y="1752480"/>
            <a:ext cx="1143000" cy="914400"/>
          </a:xfrm>
          <a:prstGeom prst="foldedCorner">
            <a:avLst>
              <a:gd name="adj" fmla="val 125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ha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ransa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X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rovements Since Release 1.4.6 (July 200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Trans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do JDBC adap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ChadoXML adapt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Selected minor improv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do Roundtrip Op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467480" y="5486400"/>
            <a:ext cx="1219320" cy="990720"/>
          </a:xfrm>
          <a:prstGeom prst="can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do D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286000" y="1790640"/>
            <a:ext cx="990720" cy="609840"/>
          </a:xfrm>
          <a:prstGeom prst="foldedCorner">
            <a:avLst>
              <a:gd name="adj" fmla="val 12500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736800" y="1752480"/>
            <a:ext cx="1371600" cy="685800"/>
          </a:xfrm>
          <a:prstGeom prst="ellipse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2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2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095880" y="3021120"/>
            <a:ext cx="990720" cy="609480"/>
          </a:xfrm>
          <a:prstGeom prst="foldedCorner">
            <a:avLst>
              <a:gd name="adj" fmla="val 12500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0" name=""/>
          <p:cNvCxnSpPr>
            <a:stCxn id="209" idx="3"/>
            <a:endCxn id="211" idx="2"/>
          </p:cNvCxnSpPr>
          <p:nvPr/>
        </p:nvCxnSpPr>
        <p:spPr>
          <a:xfrm>
            <a:off x="7086600" y="3325320"/>
            <a:ext cx="5724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12" name=""/>
          <p:cNvCxnSpPr>
            <a:stCxn id="207" idx="3"/>
            <a:endCxn id="208" idx="2"/>
          </p:cNvCxnSpPr>
          <p:nvPr/>
        </p:nvCxnSpPr>
        <p:spPr>
          <a:xfrm>
            <a:off x="3276720" y="2095200"/>
            <a:ext cx="4608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13" name=""/>
          <p:cNvCxnSpPr>
            <a:stCxn id="208" idx="6"/>
            <a:endCxn id="209" idx="0"/>
          </p:cNvCxnSpPr>
          <p:nvPr/>
        </p:nvCxnSpPr>
        <p:spPr>
          <a:xfrm>
            <a:off x="5108040" y="2095200"/>
            <a:ext cx="1483560" cy="926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11" name=""/>
          <p:cNvSpPr/>
          <p:nvPr/>
        </p:nvSpPr>
        <p:spPr>
          <a:xfrm>
            <a:off x="7658280" y="3021120"/>
            <a:ext cx="838080" cy="609480"/>
          </a:xfrm>
          <a:prstGeom prst="ellipse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4" name=""/>
          <p:cNvCxnSpPr>
            <a:stCxn id="215" idx="0"/>
            <a:endCxn id="216" idx="4"/>
          </p:cNvCxnSpPr>
          <p:nvPr/>
        </p:nvCxnSpPr>
        <p:spPr>
          <a:xfrm flipV="1">
            <a:off x="990360" y="2534760"/>
            <a:ext cx="100440" cy="1054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17" name=""/>
          <p:cNvSpPr/>
          <p:nvPr/>
        </p:nvSpPr>
        <p:spPr>
          <a:xfrm>
            <a:off x="3730680" y="5527440"/>
            <a:ext cx="1384560" cy="90828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DB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ap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98520" y="1641240"/>
            <a:ext cx="1384560" cy="908280"/>
          </a:xfrm>
          <a:prstGeom prst="ellipse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ap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594600" y="2871720"/>
            <a:ext cx="1705320" cy="908280"/>
          </a:xfrm>
          <a:prstGeom prst="ellipse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dox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ap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9" name=""/>
          <p:cNvCxnSpPr>
            <a:stCxn id="218" idx="6"/>
            <a:endCxn id="209" idx="1"/>
          </p:cNvCxnSpPr>
          <p:nvPr/>
        </p:nvCxnSpPr>
        <p:spPr>
          <a:xfrm>
            <a:off x="5272200" y="3325320"/>
            <a:ext cx="8244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20" name=""/>
          <p:cNvCxnSpPr>
            <a:stCxn id="215" idx="1"/>
            <a:endCxn id="215" idx="2"/>
          </p:cNvCxnSpPr>
          <p:nvPr/>
        </p:nvCxnSpPr>
        <p:spPr>
          <a:xfrm>
            <a:off x="1752120" y="398916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21" name=""/>
          <p:cNvCxnSpPr>
            <a:stCxn id="215" idx="3"/>
            <a:endCxn id="218" idx="2"/>
          </p:cNvCxnSpPr>
          <p:nvPr/>
        </p:nvCxnSpPr>
        <p:spPr>
          <a:xfrm flipV="1">
            <a:off x="1752120" y="3325320"/>
            <a:ext cx="1869480" cy="664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222" name=""/>
          <p:cNvGrpSpPr/>
          <p:nvPr/>
        </p:nvGrpSpPr>
        <p:grpSpPr>
          <a:xfrm>
            <a:off x="228600" y="3456000"/>
            <a:ext cx="1523880" cy="1066680"/>
            <a:chOff x="228600" y="3456000"/>
            <a:chExt cx="1523880" cy="1066680"/>
          </a:xfrm>
        </p:grpSpPr>
        <p:sp>
          <p:nvSpPr>
            <p:cNvPr id="215" name=""/>
            <p:cNvSpPr/>
            <p:nvPr/>
          </p:nvSpPr>
          <p:spPr>
            <a:xfrm>
              <a:off x="228600" y="3456000"/>
              <a:ext cx="1523880" cy="1066680"/>
            </a:xfrm>
            <a:prstGeom prst="bevel">
              <a:avLst>
                <a:gd name="adj" fmla="val 125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83920" y="3804840"/>
              <a:ext cx="813240" cy="368280"/>
            </a:xfrm>
            <a:prstGeom prst="rect">
              <a:avLst/>
            </a:prstGeom>
            <a:solidFill>
              <a:srgbClr val="fbdf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poll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"/>
          <p:cNvSpPr/>
          <p:nvPr/>
        </p:nvSpPr>
        <p:spPr>
          <a:xfrm>
            <a:off x="3408840" y="4232160"/>
            <a:ext cx="2028960" cy="908280"/>
          </a:xfrm>
          <a:prstGeom prst="ellipse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doTr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ap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5" name=""/>
          <p:cNvCxnSpPr>
            <a:stCxn id="215" idx="4"/>
            <a:endCxn id="224" idx="2"/>
          </p:cNvCxnSpPr>
          <p:nvPr/>
        </p:nvCxnSpPr>
        <p:spPr>
          <a:xfrm>
            <a:off x="1752120" y="3989520"/>
            <a:ext cx="1683720" cy="697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26" name=""/>
          <p:cNvCxnSpPr>
            <a:stCxn id="224" idx="6"/>
            <a:endCxn id="227" idx="1"/>
          </p:cNvCxnSpPr>
          <p:nvPr/>
        </p:nvCxnSpPr>
        <p:spPr>
          <a:xfrm>
            <a:off x="5410080" y="4686120"/>
            <a:ext cx="457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endCxn id="217" idx="2"/>
          </p:cNvCxnSpPr>
          <p:nvPr/>
        </p:nvCxnSpPr>
        <p:spPr>
          <a:xfrm>
            <a:off x="914400" y="4572000"/>
            <a:ext cx="2845440" cy="1410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29" name=""/>
          <p:cNvCxnSpPr>
            <a:stCxn id="217" idx="6"/>
            <a:endCxn id="206" idx="2"/>
          </p:cNvCxnSpPr>
          <p:nvPr/>
        </p:nvCxnSpPr>
        <p:spPr>
          <a:xfrm>
            <a:off x="5086440" y="5981400"/>
            <a:ext cx="2381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27" name=""/>
          <p:cNvSpPr/>
          <p:nvPr/>
        </p:nvSpPr>
        <p:spPr>
          <a:xfrm>
            <a:off x="5867280" y="4381560"/>
            <a:ext cx="1295640" cy="609480"/>
          </a:xfrm>
          <a:prstGeom prst="foldedCorner">
            <a:avLst>
              <a:gd name="adj" fmla="val 12500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doTra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0" name=""/>
          <p:cNvCxnSpPr>
            <a:stCxn id="227" idx="0"/>
            <a:endCxn id="211" idx="3"/>
          </p:cNvCxnSpPr>
          <p:nvPr/>
        </p:nvCxnSpPr>
        <p:spPr>
          <a:xfrm flipV="1">
            <a:off x="6515280" y="3540960"/>
            <a:ext cx="1265760" cy="840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07" idx="1"/>
            <a:endCxn id="216" idx="6"/>
          </p:cNvCxnSpPr>
          <p:nvPr/>
        </p:nvCxnSpPr>
        <p:spPr>
          <a:xfrm flipH="1">
            <a:off x="1753560" y="2095200"/>
            <a:ext cx="532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32" name=""/>
          <p:cNvCxnSpPr>
            <a:stCxn id="211" idx="4"/>
            <a:endCxn id="206" idx="1"/>
          </p:cNvCxnSpPr>
          <p:nvPr/>
        </p:nvCxnSpPr>
        <p:spPr>
          <a:xfrm>
            <a:off x="8076960" y="3630240"/>
            <a:ext cx="1080" cy="185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</p:spTree>
  </p:cSld>
  <p:transition>
    <p:zoom dir="in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DBC Writeb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2976120"/>
            <a:ext cx="7772400" cy="35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DBCTransactionWriter creates SQL from Chado Trans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DBC commits SQL to Chado D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ce Chado project will use this (in testing phas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676840" y="1981080"/>
            <a:ext cx="1143000" cy="7621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DB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9480" y="2019240"/>
            <a:ext cx="1067040" cy="68580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a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jav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038480" y="2019240"/>
            <a:ext cx="1067040" cy="68580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a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8" name=""/>
          <p:cNvCxnSpPr>
            <a:stCxn id="236" idx="3"/>
            <a:endCxn id="239" idx="2"/>
          </p:cNvCxnSpPr>
          <p:nvPr/>
        </p:nvCxnSpPr>
        <p:spPr>
          <a:xfrm>
            <a:off x="1676160" y="2361960"/>
            <a:ext cx="6483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3"/>
            <a:endCxn id="235" idx="2"/>
          </p:cNvCxnSpPr>
          <p:nvPr/>
        </p:nvCxnSpPr>
        <p:spPr>
          <a:xfrm>
            <a:off x="5105160" y="2361960"/>
            <a:ext cx="57204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1" name=""/>
          <p:cNvCxnSpPr>
            <a:stCxn id="235" idx="6"/>
            <a:endCxn id="242" idx="2"/>
          </p:cNvCxnSpPr>
          <p:nvPr/>
        </p:nvCxnSpPr>
        <p:spPr>
          <a:xfrm>
            <a:off x="6819840" y="2361960"/>
            <a:ext cx="572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9" name=""/>
          <p:cNvSpPr/>
          <p:nvPr/>
        </p:nvSpPr>
        <p:spPr>
          <a:xfrm>
            <a:off x="2324160" y="1981080"/>
            <a:ext cx="1143000" cy="7621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DBC Tra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ri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3" name=""/>
          <p:cNvCxnSpPr>
            <a:stCxn id="239" idx="6"/>
            <a:endCxn id="237" idx="1"/>
          </p:cNvCxnSpPr>
          <p:nvPr/>
        </p:nvCxnSpPr>
        <p:spPr>
          <a:xfrm>
            <a:off x="3466800" y="2361960"/>
            <a:ext cx="57204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7391520" y="2019240"/>
            <a:ext cx="914400" cy="685800"/>
          </a:xfrm>
          <a:prstGeom prst="can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a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me Adap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281916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me adapters capture MOD specific behavior for IDs and na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edits affect names &amp; ID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merge, split, …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ce &amp; Fly have their own name adap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herit from new generic GMOD name adap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362320" y="1790640"/>
            <a:ext cx="1143000" cy="7621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ame Ed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762120" y="1828800"/>
            <a:ext cx="1066680" cy="68580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ol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162920" y="1828800"/>
            <a:ext cx="1066680" cy="68580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ag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trans lis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9" name=""/>
          <p:cNvCxnSpPr>
            <a:stCxn id="247" idx="3"/>
            <a:endCxn id="246" idx="2"/>
          </p:cNvCxnSpPr>
          <p:nvPr/>
        </p:nvCxnSpPr>
        <p:spPr>
          <a:xfrm>
            <a:off x="1828800" y="2171520"/>
            <a:ext cx="53424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0" name=""/>
          <p:cNvCxnSpPr>
            <a:stCxn id="246" idx="6"/>
            <a:endCxn id="251" idx="1"/>
          </p:cNvCxnSpPr>
          <p:nvPr/>
        </p:nvCxnSpPr>
        <p:spPr>
          <a:xfrm>
            <a:off x="3504960" y="2171520"/>
            <a:ext cx="5338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51" name=""/>
          <p:cNvSpPr/>
          <p:nvPr/>
        </p:nvSpPr>
        <p:spPr>
          <a:xfrm>
            <a:off x="4038480" y="1828800"/>
            <a:ext cx="1067040" cy="68580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a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ap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2" name=""/>
          <p:cNvCxnSpPr>
            <a:stCxn id="251" idx="3"/>
            <a:endCxn id="253" idx="2"/>
          </p:cNvCxnSpPr>
          <p:nvPr/>
        </p:nvCxnSpPr>
        <p:spPr>
          <a:xfrm>
            <a:off x="5105520" y="2171520"/>
            <a:ext cx="45792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53" name=""/>
          <p:cNvSpPr/>
          <p:nvPr/>
        </p:nvSpPr>
        <p:spPr>
          <a:xfrm>
            <a:off x="5562720" y="1790640"/>
            <a:ext cx="1143000" cy="7621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a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nsa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4" name=""/>
          <p:cNvCxnSpPr>
            <a:stCxn id="253" idx="6"/>
            <a:endCxn id="248" idx="1"/>
          </p:cNvCxnSpPr>
          <p:nvPr/>
        </p:nvCxnSpPr>
        <p:spPr>
          <a:xfrm>
            <a:off x="6705720" y="2171520"/>
            <a:ext cx="45792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09480" y="281916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cilitated by Trans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ound Transactions for compound events (name change, split…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al implementation (only in Annotation Info Edito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86200" y="1752480"/>
            <a:ext cx="1143000" cy="7621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209680" y="1790640"/>
            <a:ext cx="1067040" cy="68580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ol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5638680" y="1790640"/>
            <a:ext cx="1067040" cy="68580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ag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trans lis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0" name=""/>
          <p:cNvCxnSpPr>
            <a:stCxn id="258" idx="3"/>
            <a:endCxn id="257" idx="2"/>
          </p:cNvCxnSpPr>
          <p:nvPr/>
        </p:nvCxnSpPr>
        <p:spPr>
          <a:xfrm>
            <a:off x="3276360" y="2133360"/>
            <a:ext cx="6102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"/>
          <p:cNvCxnSpPr>
            <a:stCxn id="257" idx="6"/>
            <a:endCxn id="259" idx="1"/>
          </p:cNvCxnSpPr>
          <p:nvPr/>
        </p:nvCxnSpPr>
        <p:spPr>
          <a:xfrm>
            <a:off x="5028840" y="2133360"/>
            <a:ext cx="6102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85800" y="669960"/>
            <a:ext cx="777240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notation Info Edi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685800" y="1805040"/>
            <a:ext cx="7772400" cy="45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DBC Reader Improv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configurable (XML config fil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s out of range leaf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ries optimiz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command-line arguments for reading and writing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rovements Since Release 1.4.6 (July 200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Trans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Chado JDBC adap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doXML adapt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Selected minor improv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do Roundtrip Op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7543800" y="5486400"/>
            <a:ext cx="1219320" cy="990720"/>
          </a:xfrm>
          <a:prstGeom prst="can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do D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362320" y="1790640"/>
            <a:ext cx="990360" cy="609840"/>
          </a:xfrm>
          <a:prstGeom prst="foldedCorner">
            <a:avLst>
              <a:gd name="adj" fmla="val 12500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813120" y="1752480"/>
            <a:ext cx="1371600" cy="685800"/>
          </a:xfrm>
          <a:prstGeom prst="ellipse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2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2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172200" y="3021120"/>
            <a:ext cx="990720" cy="609480"/>
          </a:xfrm>
          <a:prstGeom prst="foldedCorner">
            <a:avLst>
              <a:gd name="adj" fmla="val 125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3" name=""/>
          <p:cNvCxnSpPr>
            <a:stCxn id="272" idx="3"/>
            <a:endCxn id="274" idx="2"/>
          </p:cNvCxnSpPr>
          <p:nvPr/>
        </p:nvCxnSpPr>
        <p:spPr>
          <a:xfrm>
            <a:off x="7162560" y="3325320"/>
            <a:ext cx="5720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5" name=""/>
          <p:cNvCxnSpPr>
            <a:stCxn id="270" idx="3"/>
            <a:endCxn id="271" idx="2"/>
          </p:cNvCxnSpPr>
          <p:nvPr/>
        </p:nvCxnSpPr>
        <p:spPr>
          <a:xfrm>
            <a:off x="3352320" y="2095200"/>
            <a:ext cx="4611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6" name=""/>
          <p:cNvCxnSpPr>
            <a:stCxn id="271" idx="6"/>
            <a:endCxn id="272" idx="0"/>
          </p:cNvCxnSpPr>
          <p:nvPr/>
        </p:nvCxnSpPr>
        <p:spPr>
          <a:xfrm>
            <a:off x="5184360" y="2095200"/>
            <a:ext cx="1483560" cy="926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734240" y="3021120"/>
            <a:ext cx="838440" cy="60948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7" name=""/>
          <p:cNvCxnSpPr>
            <a:stCxn id="278" idx="0"/>
            <a:endCxn id="279" idx="4"/>
          </p:cNvCxnSpPr>
          <p:nvPr/>
        </p:nvCxnSpPr>
        <p:spPr>
          <a:xfrm flipV="1">
            <a:off x="1066680" y="2534760"/>
            <a:ext cx="100800" cy="1054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0" name=""/>
          <p:cNvSpPr/>
          <p:nvPr/>
        </p:nvSpPr>
        <p:spPr>
          <a:xfrm>
            <a:off x="3806640" y="5527440"/>
            <a:ext cx="1384560" cy="908280"/>
          </a:xfrm>
          <a:prstGeom prst="ellipse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DB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ap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74480" y="1641240"/>
            <a:ext cx="1384560" cy="908280"/>
          </a:xfrm>
          <a:prstGeom prst="ellipse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ap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3544200" y="2871720"/>
            <a:ext cx="1957680" cy="90828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do X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ap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2" name=""/>
          <p:cNvCxnSpPr>
            <a:stCxn id="281" idx="6"/>
            <a:endCxn id="272" idx="1"/>
          </p:cNvCxnSpPr>
          <p:nvPr/>
        </p:nvCxnSpPr>
        <p:spPr>
          <a:xfrm>
            <a:off x="5473800" y="3325320"/>
            <a:ext cx="699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3" name=""/>
          <p:cNvCxnSpPr>
            <a:stCxn id="278" idx="1"/>
            <a:endCxn id="278" idx="2"/>
          </p:cNvCxnSpPr>
          <p:nvPr/>
        </p:nvCxnSpPr>
        <p:spPr>
          <a:xfrm>
            <a:off x="1828440" y="398916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"/>
          <p:cNvCxnSpPr>
            <a:stCxn id="278" idx="3"/>
            <a:endCxn id="281" idx="2"/>
          </p:cNvCxnSpPr>
          <p:nvPr/>
        </p:nvCxnSpPr>
        <p:spPr>
          <a:xfrm flipV="1">
            <a:off x="1828800" y="3325320"/>
            <a:ext cx="1743840" cy="664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285" name=""/>
          <p:cNvGrpSpPr/>
          <p:nvPr/>
        </p:nvGrpSpPr>
        <p:grpSpPr>
          <a:xfrm>
            <a:off x="304920" y="3456000"/>
            <a:ext cx="1523880" cy="1066680"/>
            <a:chOff x="304920" y="3456000"/>
            <a:chExt cx="1523880" cy="1066680"/>
          </a:xfrm>
        </p:grpSpPr>
        <p:sp>
          <p:nvSpPr>
            <p:cNvPr id="278" name=""/>
            <p:cNvSpPr/>
            <p:nvPr/>
          </p:nvSpPr>
          <p:spPr>
            <a:xfrm>
              <a:off x="304920" y="3456000"/>
              <a:ext cx="1523880" cy="1066680"/>
            </a:xfrm>
            <a:prstGeom prst="bevel">
              <a:avLst>
                <a:gd name="adj" fmla="val 125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60240" y="3804840"/>
              <a:ext cx="813240" cy="368280"/>
            </a:xfrm>
            <a:prstGeom prst="rect">
              <a:avLst/>
            </a:prstGeom>
            <a:solidFill>
              <a:srgbClr val="fbdf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poll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7" name=""/>
          <p:cNvSpPr/>
          <p:nvPr/>
        </p:nvSpPr>
        <p:spPr>
          <a:xfrm>
            <a:off x="3484440" y="4232160"/>
            <a:ext cx="2028960" cy="908280"/>
          </a:xfrm>
          <a:prstGeom prst="ellipse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doTr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ap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8" name=""/>
          <p:cNvCxnSpPr>
            <a:stCxn id="278" idx="4"/>
            <a:endCxn id="287" idx="2"/>
          </p:cNvCxnSpPr>
          <p:nvPr/>
        </p:nvCxnSpPr>
        <p:spPr>
          <a:xfrm>
            <a:off x="1828800" y="3989520"/>
            <a:ext cx="1683360" cy="697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9" name=""/>
          <p:cNvCxnSpPr>
            <a:stCxn id="287" idx="6"/>
            <a:endCxn id="290" idx="1"/>
          </p:cNvCxnSpPr>
          <p:nvPr/>
        </p:nvCxnSpPr>
        <p:spPr>
          <a:xfrm>
            <a:off x="5486400" y="4686120"/>
            <a:ext cx="457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1" name=""/>
          <p:cNvCxnSpPr>
            <a:stCxn id="278" idx="5"/>
            <a:endCxn id="280" idx="2"/>
          </p:cNvCxnSpPr>
          <p:nvPr/>
        </p:nvCxnSpPr>
        <p:spPr>
          <a:xfrm>
            <a:off x="1066320" y="4522320"/>
            <a:ext cx="2769480" cy="1459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92" name=""/>
          <p:cNvCxnSpPr>
            <a:stCxn id="280" idx="6"/>
            <a:endCxn id="269" idx="2"/>
          </p:cNvCxnSpPr>
          <p:nvPr/>
        </p:nvCxnSpPr>
        <p:spPr>
          <a:xfrm>
            <a:off x="5162040" y="5981400"/>
            <a:ext cx="2382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90" name=""/>
          <p:cNvSpPr/>
          <p:nvPr/>
        </p:nvSpPr>
        <p:spPr>
          <a:xfrm>
            <a:off x="5943600" y="4381560"/>
            <a:ext cx="1295280" cy="609480"/>
          </a:xfrm>
          <a:prstGeom prst="foldedCorner">
            <a:avLst>
              <a:gd name="adj" fmla="val 12500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doTra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3" name=""/>
          <p:cNvCxnSpPr>
            <a:stCxn id="290" idx="0"/>
            <a:endCxn id="274" idx="3"/>
          </p:cNvCxnSpPr>
          <p:nvPr/>
        </p:nvCxnSpPr>
        <p:spPr>
          <a:xfrm flipV="1">
            <a:off x="6590880" y="3540960"/>
            <a:ext cx="1266120" cy="840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4" name=""/>
          <p:cNvCxnSpPr>
            <a:stCxn id="270" idx="1"/>
            <a:endCxn id="279" idx="6"/>
          </p:cNvCxnSpPr>
          <p:nvPr/>
        </p:nvCxnSpPr>
        <p:spPr>
          <a:xfrm flipH="1">
            <a:off x="1829880" y="2095200"/>
            <a:ext cx="5328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95" name=""/>
          <p:cNvCxnSpPr>
            <a:stCxn id="274" idx="4"/>
            <a:endCxn id="269" idx="1"/>
          </p:cNvCxnSpPr>
          <p:nvPr/>
        </p:nvCxnSpPr>
        <p:spPr>
          <a:xfrm>
            <a:off x="8152920" y="3630240"/>
            <a:ext cx="1080" cy="185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</p:spTree>
  </p:cSld>
  <p:transition>
    <p:zoom dir="in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/>
          </p:nvPr>
        </p:nvSpPr>
        <p:spPr>
          <a:xfrm>
            <a:off x="304560" y="3733560"/>
            <a:ext cx="84582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/write ChadoXML without G2C/C2G conver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on to save annotations on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mes exons using shared exon numb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ect non-redundant set of ex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ber from lowest to highest star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doXML Adapt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083040" y="1409760"/>
            <a:ext cx="841320" cy="517320"/>
          </a:xfrm>
          <a:prstGeom prst="foldedCorner">
            <a:avLst>
              <a:gd name="adj" fmla="val 12500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591080" y="1371600"/>
            <a:ext cx="1165320" cy="582480"/>
          </a:xfrm>
          <a:prstGeom prst="ellipse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2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2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6892920" y="2639880"/>
            <a:ext cx="841320" cy="517680"/>
          </a:xfrm>
          <a:prstGeom prst="foldedCorner">
            <a:avLst>
              <a:gd name="adj" fmla="val 125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1" name=""/>
          <p:cNvCxnSpPr>
            <a:stCxn id="298" idx="3"/>
            <a:endCxn id="299" idx="2"/>
          </p:cNvCxnSpPr>
          <p:nvPr/>
        </p:nvCxnSpPr>
        <p:spPr>
          <a:xfrm flipV="1">
            <a:off x="3924360" y="1663200"/>
            <a:ext cx="667440" cy="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02" name=""/>
          <p:cNvCxnSpPr>
            <a:stCxn id="299" idx="6"/>
            <a:endCxn id="300" idx="0"/>
          </p:cNvCxnSpPr>
          <p:nvPr/>
        </p:nvCxnSpPr>
        <p:spPr>
          <a:xfrm>
            <a:off x="5756400" y="1663560"/>
            <a:ext cx="1558080" cy="977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03" name=""/>
          <p:cNvCxnSpPr>
            <a:stCxn id="304" idx="0"/>
            <a:endCxn id="305" idx="4"/>
          </p:cNvCxnSpPr>
          <p:nvPr/>
        </p:nvCxnSpPr>
        <p:spPr>
          <a:xfrm flipV="1">
            <a:off x="1790640" y="2088360"/>
            <a:ext cx="48240" cy="538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05" name=""/>
          <p:cNvSpPr/>
          <p:nvPr/>
        </p:nvSpPr>
        <p:spPr>
          <a:xfrm>
            <a:off x="1146240" y="1195200"/>
            <a:ext cx="1384560" cy="908280"/>
          </a:xfrm>
          <a:prstGeom prst="ellipse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ap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258440" y="2425680"/>
            <a:ext cx="1957680" cy="90828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do X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ap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7" name=""/>
          <p:cNvCxnSpPr>
            <a:stCxn id="306" idx="6"/>
            <a:endCxn id="300" idx="1"/>
          </p:cNvCxnSpPr>
          <p:nvPr/>
        </p:nvCxnSpPr>
        <p:spPr>
          <a:xfrm>
            <a:off x="6188040" y="2879280"/>
            <a:ext cx="705240" cy="19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08" name=""/>
          <p:cNvCxnSpPr>
            <a:stCxn id="304" idx="1"/>
            <a:endCxn id="304" idx="2"/>
          </p:cNvCxnSpPr>
          <p:nvPr/>
        </p:nvCxnSpPr>
        <p:spPr>
          <a:xfrm>
            <a:off x="2437920" y="296820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09" name=""/>
          <p:cNvCxnSpPr>
            <a:stCxn id="304" idx="3"/>
            <a:endCxn id="306" idx="2"/>
          </p:cNvCxnSpPr>
          <p:nvPr/>
        </p:nvCxnSpPr>
        <p:spPr>
          <a:xfrm flipV="1">
            <a:off x="2437920" y="2878920"/>
            <a:ext cx="1848600" cy="89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10" name=""/>
          <p:cNvGrpSpPr/>
          <p:nvPr/>
        </p:nvGrpSpPr>
        <p:grpSpPr>
          <a:xfrm>
            <a:off x="1143000" y="2514600"/>
            <a:ext cx="1295280" cy="906480"/>
            <a:chOff x="1143000" y="2514600"/>
            <a:chExt cx="1295280" cy="906480"/>
          </a:xfrm>
        </p:grpSpPr>
        <p:sp>
          <p:nvSpPr>
            <p:cNvPr id="304" name=""/>
            <p:cNvSpPr/>
            <p:nvPr/>
          </p:nvSpPr>
          <p:spPr>
            <a:xfrm>
              <a:off x="1143000" y="2514600"/>
              <a:ext cx="1295280" cy="906480"/>
            </a:xfrm>
            <a:prstGeom prst="bevel">
              <a:avLst>
                <a:gd name="adj" fmla="val 125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1445400" y="2811240"/>
              <a:ext cx="813240" cy="368280"/>
            </a:xfrm>
            <a:prstGeom prst="rect">
              <a:avLst/>
            </a:prstGeom>
            <a:solidFill>
              <a:srgbClr val="fbdf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poll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12" name=""/>
          <p:cNvCxnSpPr>
            <a:stCxn id="298" idx="1"/>
            <a:endCxn id="305" idx="6"/>
          </p:cNvCxnSpPr>
          <p:nvPr/>
        </p:nvCxnSpPr>
        <p:spPr>
          <a:xfrm flipH="1" flipV="1">
            <a:off x="2502000" y="1648800"/>
            <a:ext cx="581400" cy="19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doXML adapter: What it doesn’t do (yet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esn’t yet handle macros (will so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esn’t yet roundtrip all non-Apollo data (e.g. feature_cvterm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n’t have appropriate datamodels inside Apol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to beef up some datamodels, e.g. for synonyms (author, etc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ill somewhat fly-specif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rovements Since Release 1.4.6 (July 200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Trans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Chado JDBC adap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ChadoXML adapt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ed minor improv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lected minor improv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07696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tter GAME XML schema description (game.r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X-NG can represent elements that occur in any order but only on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e.g. “start” and “end”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translate rng to xsd (less stringen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76680" y="4453560"/>
            <a:ext cx="566712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element name="annotati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interleav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optional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attribute name="problem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data type="boolean"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/attribut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/optional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attribute name="id"&gt;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lected minor improv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er saving of GAME and ChadoXM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ffered saving much f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seconds vs. minut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save just annotations (and genomic residues) without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1"/>
          <a:stretch/>
        </p:blipFill>
        <p:spPr>
          <a:xfrm>
            <a:off x="1515960" y="4152960"/>
            <a:ext cx="6112080" cy="24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lected minor improv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nonyms can now be deleted (as well as added or changed) in annot info edi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command-line argu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specify input (or output) filename or source and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uesses format if not specif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ntralized UserName class and GU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Windows-only problem: mouse-over brought main window to fron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Jon Slenk of TAI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rovements Since Release 1.4.6 (July 200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do JDBC adap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doXML adapt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ed minor improv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pollo Future Pla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ing So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rove analysis adap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ad/layer raw computational analysis output (BLAST, BLAT, GENSCAN, etc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eaner U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docu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erse analysis: from subject to qu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ss fly-centric ChadoXML adap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doXML macr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rove JDBC writeback &amp; trans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ing Not As So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ll Undo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rove synten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tein edito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ll Types editor, incorporating Sequence Ontology (SO) ter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ollo webstar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pollo Webst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7467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better query too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blank Apol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on particular region (Mozilla on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mors of suc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p from communit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4876920" y="1676520"/>
            <a:ext cx="3962160" cy="142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End is Ne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vember 30, 2005: Apollo team runs out of money…unless grant application gets fun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justification for grant: Apollo community describes how important Apollo is to their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s of Apollo U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33160" y="14479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abidopsis Information Resource (TAI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ual curation of computational resul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ote new data adapter (relational d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stitute for Systems Biology, Seattle (Alistair Rus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sualizing putative transcription factor binding site predictions for various 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versity of British Columbia Bioinformatics Centre (UBi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gasys computational pipeline-&gt; GAME -&gt; Apollo -&gt; manual cura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IG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lped write initial Chado JDBC adap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n to use Apollo in production annotation pipe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meciumDB, Genosc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ing GMOD software (Chado db, etc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nning to use Apollo for community annotation cu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33160" y="4568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Apollo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4678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yBase Berkele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zanna Lewis, Nomi Harris, Mark Gibson, Sima Mis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S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uanming Wu, Scott C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ast contributor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nger Institute--Steve Searle, Michele Clamp, Vivek I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HHMI--John Day-Rich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IGR--Jonathan Crabt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lyBase--cu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369360" y="5485320"/>
            <a:ext cx="8065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aller available at 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http://www.fruitfly.org/annot/apollo/install.htm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de available at SourceForge: 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http://sourceforge.net/projects/gm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" descr=""/>
          <p:cNvPicPr/>
          <p:nvPr/>
        </p:nvPicPr>
        <p:blipFill>
          <a:blip r:embed="rId1"/>
          <a:stretch/>
        </p:blipFill>
        <p:spPr>
          <a:xfrm>
            <a:off x="762120" y="838080"/>
            <a:ext cx="7848360" cy="35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do Roundtrip Op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467480" y="5486400"/>
            <a:ext cx="1219320" cy="990720"/>
          </a:xfrm>
          <a:prstGeom prst="can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do D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1790640"/>
            <a:ext cx="990720" cy="609840"/>
          </a:xfrm>
          <a:prstGeom prst="foldedCorner">
            <a:avLst>
              <a:gd name="adj" fmla="val 125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A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736800" y="1752480"/>
            <a:ext cx="1371600" cy="68580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2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2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95880" y="3021120"/>
            <a:ext cx="990720" cy="609480"/>
          </a:xfrm>
          <a:prstGeom prst="foldedCorner">
            <a:avLst>
              <a:gd name="adj" fmla="val 125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59" idx="3"/>
            <a:endCxn id="61" idx="2"/>
          </p:cNvCxnSpPr>
          <p:nvPr/>
        </p:nvCxnSpPr>
        <p:spPr>
          <a:xfrm>
            <a:off x="7086600" y="3325320"/>
            <a:ext cx="5724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2" name=""/>
          <p:cNvCxnSpPr>
            <a:stCxn id="57" idx="3"/>
            <a:endCxn id="58" idx="2"/>
          </p:cNvCxnSpPr>
          <p:nvPr/>
        </p:nvCxnSpPr>
        <p:spPr>
          <a:xfrm>
            <a:off x="3276720" y="2095200"/>
            <a:ext cx="4608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3" name=""/>
          <p:cNvCxnSpPr>
            <a:stCxn id="58" idx="6"/>
            <a:endCxn id="59" idx="0"/>
          </p:cNvCxnSpPr>
          <p:nvPr/>
        </p:nvCxnSpPr>
        <p:spPr>
          <a:xfrm>
            <a:off x="5108040" y="2095200"/>
            <a:ext cx="1483560" cy="926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7658280" y="3021120"/>
            <a:ext cx="838080" cy="60948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65" idx="0"/>
            <a:endCxn id="66" idx="4"/>
          </p:cNvCxnSpPr>
          <p:nvPr/>
        </p:nvCxnSpPr>
        <p:spPr>
          <a:xfrm flipH="1" flipV="1">
            <a:off x="1090080" y="2534760"/>
            <a:ext cx="53280" cy="87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67" name=""/>
          <p:cNvSpPr/>
          <p:nvPr/>
        </p:nvSpPr>
        <p:spPr>
          <a:xfrm>
            <a:off x="3730680" y="5527440"/>
            <a:ext cx="1384560" cy="90828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DB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ap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8520" y="1641240"/>
            <a:ext cx="1384560" cy="90828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ap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594600" y="2871720"/>
            <a:ext cx="1705320" cy="90828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dox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ap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9" name=""/>
          <p:cNvCxnSpPr>
            <a:stCxn id="68" idx="6"/>
            <a:endCxn id="59" idx="1"/>
          </p:cNvCxnSpPr>
          <p:nvPr/>
        </p:nvCxnSpPr>
        <p:spPr>
          <a:xfrm>
            <a:off x="5272200" y="3325320"/>
            <a:ext cx="8244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0" name=""/>
          <p:cNvCxnSpPr>
            <a:stCxn id="65" idx="1"/>
            <a:endCxn id="65" idx="2"/>
          </p:cNvCxnSpPr>
          <p:nvPr/>
        </p:nvCxnSpPr>
        <p:spPr>
          <a:xfrm>
            <a:off x="1904760" y="380952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1" name=""/>
          <p:cNvCxnSpPr>
            <a:stCxn id="65" idx="3"/>
            <a:endCxn id="68" idx="2"/>
          </p:cNvCxnSpPr>
          <p:nvPr/>
        </p:nvCxnSpPr>
        <p:spPr>
          <a:xfrm flipV="1">
            <a:off x="1904760" y="3324960"/>
            <a:ext cx="1716840" cy="484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72" name=""/>
          <p:cNvGrpSpPr/>
          <p:nvPr/>
        </p:nvGrpSpPr>
        <p:grpSpPr>
          <a:xfrm>
            <a:off x="380880" y="3276720"/>
            <a:ext cx="1523880" cy="1066680"/>
            <a:chOff x="380880" y="3276720"/>
            <a:chExt cx="1523880" cy="1066680"/>
          </a:xfrm>
        </p:grpSpPr>
        <p:sp>
          <p:nvSpPr>
            <p:cNvPr id="65" name=""/>
            <p:cNvSpPr/>
            <p:nvPr/>
          </p:nvSpPr>
          <p:spPr>
            <a:xfrm>
              <a:off x="380880" y="3276720"/>
              <a:ext cx="1523880" cy="1066680"/>
            </a:xfrm>
            <a:prstGeom prst="bevel">
              <a:avLst>
                <a:gd name="adj" fmla="val 125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736200" y="3625560"/>
              <a:ext cx="813240" cy="368280"/>
            </a:xfrm>
            <a:prstGeom prst="rect">
              <a:avLst/>
            </a:prstGeom>
            <a:solidFill>
              <a:srgbClr val="fbdf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poll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"/>
          <p:cNvSpPr/>
          <p:nvPr/>
        </p:nvSpPr>
        <p:spPr>
          <a:xfrm>
            <a:off x="3408840" y="4232160"/>
            <a:ext cx="2028960" cy="90828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doTr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ap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5" name=""/>
          <p:cNvCxnSpPr>
            <a:stCxn id="65" idx="4"/>
            <a:endCxn id="74" idx="2"/>
          </p:cNvCxnSpPr>
          <p:nvPr/>
        </p:nvCxnSpPr>
        <p:spPr>
          <a:xfrm>
            <a:off x="1904760" y="3809520"/>
            <a:ext cx="1531080" cy="87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6" name=""/>
          <p:cNvCxnSpPr>
            <a:stCxn id="74" idx="6"/>
            <a:endCxn id="77" idx="1"/>
          </p:cNvCxnSpPr>
          <p:nvPr/>
        </p:nvCxnSpPr>
        <p:spPr>
          <a:xfrm>
            <a:off x="5410080" y="4686120"/>
            <a:ext cx="457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endCxn id="67" idx="2"/>
          </p:cNvCxnSpPr>
          <p:nvPr/>
        </p:nvCxnSpPr>
        <p:spPr>
          <a:xfrm>
            <a:off x="1142640" y="4419360"/>
            <a:ext cx="2616840" cy="156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9" name=""/>
          <p:cNvCxnSpPr>
            <a:stCxn id="67" idx="6"/>
            <a:endCxn id="56" idx="2"/>
          </p:cNvCxnSpPr>
          <p:nvPr/>
        </p:nvCxnSpPr>
        <p:spPr>
          <a:xfrm>
            <a:off x="5086440" y="5981400"/>
            <a:ext cx="2381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5867280" y="4381560"/>
            <a:ext cx="1295640" cy="609480"/>
          </a:xfrm>
          <a:prstGeom prst="foldedCorner">
            <a:avLst>
              <a:gd name="adj" fmla="val 125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adoTra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0" name=""/>
          <p:cNvCxnSpPr>
            <a:stCxn id="77" idx="0"/>
            <a:endCxn id="61" idx="3"/>
          </p:cNvCxnSpPr>
          <p:nvPr/>
        </p:nvCxnSpPr>
        <p:spPr>
          <a:xfrm flipV="1">
            <a:off x="6515280" y="3540960"/>
            <a:ext cx="1265760" cy="840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57" idx="1"/>
            <a:endCxn id="66" idx="6"/>
          </p:cNvCxnSpPr>
          <p:nvPr/>
        </p:nvCxnSpPr>
        <p:spPr>
          <a:xfrm flipH="1">
            <a:off x="1753560" y="2095200"/>
            <a:ext cx="532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2" name=""/>
          <p:cNvCxnSpPr>
            <a:stCxn id="61" idx="4"/>
            <a:endCxn id="56" idx="1"/>
          </p:cNvCxnSpPr>
          <p:nvPr/>
        </p:nvCxnSpPr>
        <p:spPr>
          <a:xfrm>
            <a:off x="8076960" y="3630240"/>
            <a:ext cx="1080" cy="185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</p:spTree>
  </p:cSld>
  <p:transition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rovements Since Release 1.4.6 (July 200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Chado JDBC adap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ChadoXML adapt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Selected minor improv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nsactions &amp; Integrated D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” DB has non-Apollo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peout &amp; insert” will have a hard time preserving non-Apollo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action writeback does not affect non-Apollo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leted objects are missing from saved data file—need transactions to keep track of th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336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nsactions &amp; Writeb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644480" y="2843280"/>
            <a:ext cx="750960" cy="47628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d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647720" y="4953240"/>
            <a:ext cx="940320" cy="47628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n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018960" y="5728320"/>
            <a:ext cx="1899360" cy="821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ales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nsa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291000" y="1511640"/>
            <a:ext cx="1815480" cy="116460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nsa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nsform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761800" y="5376960"/>
            <a:ext cx="1050480" cy="47628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534800" y="5376960"/>
            <a:ext cx="1005480" cy="47628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DB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1040" y="4013280"/>
            <a:ext cx="746280" cy="58068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ol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347280" y="3810600"/>
            <a:ext cx="1241280" cy="82404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nsa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li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576120" y="3078360"/>
            <a:ext cx="1241280" cy="58068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nsa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647480" y="4246560"/>
            <a:ext cx="777960" cy="58068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Q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8" name=""/>
          <p:cNvCxnSpPr>
            <a:stCxn id="94" idx="3"/>
            <a:endCxn id="88" idx="2"/>
          </p:cNvCxnSpPr>
          <p:nvPr/>
        </p:nvCxnSpPr>
        <p:spPr>
          <a:xfrm flipV="1">
            <a:off x="1063440" y="3080880"/>
            <a:ext cx="611640" cy="1223280"/>
          </a:xfrm>
          <a:prstGeom prst="bentConnector3">
            <a:avLst>
              <a:gd name="adj1" fmla="val 4982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9" name=""/>
          <p:cNvCxnSpPr>
            <a:stCxn id="88" idx="6"/>
            <a:endCxn id="95" idx="1"/>
          </p:cNvCxnSpPr>
          <p:nvPr/>
        </p:nvCxnSpPr>
        <p:spPr>
          <a:xfrm>
            <a:off x="2365200" y="3080880"/>
            <a:ext cx="975600" cy="1142280"/>
          </a:xfrm>
          <a:prstGeom prst="bentConnector3">
            <a:avLst>
              <a:gd name="adj1" fmla="val 4998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4" idx="3"/>
            <a:endCxn id="89" idx="2"/>
          </p:cNvCxnSpPr>
          <p:nvPr/>
        </p:nvCxnSpPr>
        <p:spPr>
          <a:xfrm>
            <a:off x="1063800" y="4303440"/>
            <a:ext cx="613440" cy="88812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9" idx="6"/>
            <a:endCxn id="95" idx="1"/>
          </p:cNvCxnSpPr>
          <p:nvPr/>
        </p:nvCxnSpPr>
        <p:spPr>
          <a:xfrm flipV="1">
            <a:off x="2558880" y="4222440"/>
            <a:ext cx="781920" cy="96912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95" idx="2"/>
            <a:endCxn id="90" idx="0"/>
          </p:cNvCxnSpPr>
          <p:nvPr/>
        </p:nvCxnSpPr>
        <p:spPr>
          <a:xfrm>
            <a:off x="3968280" y="4640400"/>
            <a:ext cx="1080" cy="1102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95" idx="0"/>
            <a:endCxn id="104" idx="2"/>
          </p:cNvCxnSpPr>
          <p:nvPr/>
        </p:nvCxnSpPr>
        <p:spPr>
          <a:xfrm flipV="1" rot="16200000">
            <a:off x="3319560" y="3156120"/>
            <a:ext cx="1291320" cy="6840"/>
          </a:xfrm>
          <a:prstGeom prst="bentConnector3">
            <a:avLst>
              <a:gd name="adj1" fmla="val 49916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95" idx="3"/>
            <a:endCxn id="91" idx="2"/>
          </p:cNvCxnSpPr>
          <p:nvPr/>
        </p:nvCxnSpPr>
        <p:spPr>
          <a:xfrm flipV="1">
            <a:off x="4595400" y="2093400"/>
            <a:ext cx="1723320" cy="2129760"/>
          </a:xfrm>
          <a:prstGeom prst="bentConnector3">
            <a:avLst>
              <a:gd name="adj1" fmla="val 4993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"/>
          <p:cNvCxnSpPr>
            <a:stCxn id="91" idx="4"/>
            <a:endCxn id="96" idx="0"/>
          </p:cNvCxnSpPr>
          <p:nvPr/>
        </p:nvCxnSpPr>
        <p:spPr>
          <a:xfrm rot="5400000">
            <a:off x="6993360" y="2867760"/>
            <a:ext cx="410040" cy="21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6" idx="2"/>
          </p:cNvCxnSpPr>
          <p:nvPr/>
        </p:nvCxnSpPr>
        <p:spPr>
          <a:xfrm rot="5400000">
            <a:off x="6495480" y="3416040"/>
            <a:ext cx="454680" cy="950040"/>
          </a:xfrm>
          <a:prstGeom prst="bentConnector3">
            <a:avLst>
              <a:gd name="adj1" fmla="val 6568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6" idx="2"/>
            <a:endCxn id="97" idx="0"/>
          </p:cNvCxnSpPr>
          <p:nvPr/>
        </p:nvCxnSpPr>
        <p:spPr>
          <a:xfrm flipH="1" rot="16200000">
            <a:off x="7328520" y="3532680"/>
            <a:ext cx="578520" cy="8402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110" idx="2"/>
            <a:endCxn id="92" idx="0"/>
          </p:cNvCxnSpPr>
          <p:nvPr/>
        </p:nvCxnSpPr>
        <p:spPr>
          <a:xfrm flipV="1" rot="10800000">
            <a:off x="6285960" y="5028840"/>
            <a:ext cx="1080" cy="362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97" idx="2"/>
            <a:endCxn id="93" idx="0"/>
          </p:cNvCxnSpPr>
          <p:nvPr/>
        </p:nvCxnSpPr>
        <p:spPr>
          <a:xfrm flipV="1" rot="10800000">
            <a:off x="8036640" y="4832280"/>
            <a:ext cx="1080" cy="559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92" idx="4"/>
            <a:endCxn id="113" idx="2"/>
          </p:cNvCxnSpPr>
          <p:nvPr/>
        </p:nvCxnSpPr>
        <p:spPr>
          <a:xfrm flipH="1" rot="16200000">
            <a:off x="6309360" y="5815080"/>
            <a:ext cx="448560" cy="495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4" name=""/>
          <p:cNvCxnSpPr>
            <a:stCxn id="93" idx="4"/>
            <a:endCxn id="113" idx="4"/>
          </p:cNvCxnSpPr>
          <p:nvPr/>
        </p:nvCxnSpPr>
        <p:spPr>
          <a:xfrm rot="5400000">
            <a:off x="7642080" y="5892120"/>
            <a:ext cx="448560" cy="3420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6781680" y="5943600"/>
            <a:ext cx="914400" cy="685800"/>
          </a:xfrm>
          <a:prstGeom prst="can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ado 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00400" y="1600200"/>
            <a:ext cx="1523880" cy="914400"/>
          </a:xfrm>
          <a:prstGeom prst="foldedCorner">
            <a:avLst>
              <a:gd name="adj" fmla="val 125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ransa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X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interim sav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715000" y="4114800"/>
            <a:ext cx="1143000" cy="914400"/>
          </a:xfrm>
          <a:prstGeom prst="foldedCorner">
            <a:avLst>
              <a:gd name="adj" fmla="val 125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ha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ransa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X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pollo Trans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3159000"/>
            <a:ext cx="77724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pture fine grain ed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action object contai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ration (add, delete, updat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ature (gene, transcript, ex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part (none, comment, name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“action” can result in many trans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886200" y="1905120"/>
            <a:ext cx="1143000" cy="7617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ol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di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828800" y="1943280"/>
            <a:ext cx="1066680" cy="68580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ol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943600" y="1943280"/>
            <a:ext cx="1066680" cy="68580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ag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trans lis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"/>
          <p:cNvCxnSpPr>
            <a:stCxn id="118" idx="3"/>
            <a:endCxn id="117" idx="2"/>
          </p:cNvCxnSpPr>
          <p:nvPr/>
        </p:nvCxnSpPr>
        <p:spPr>
          <a:xfrm>
            <a:off x="2895480" y="2285640"/>
            <a:ext cx="99144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1" name=""/>
          <p:cNvCxnSpPr>
            <a:stCxn id="117" idx="6"/>
            <a:endCxn id="119" idx="1"/>
          </p:cNvCxnSpPr>
          <p:nvPr/>
        </p:nvCxnSpPr>
        <p:spPr>
          <a:xfrm>
            <a:off x="5029200" y="2285640"/>
            <a:ext cx="91512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alesce Trans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28954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ter out redundant ed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e at commit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181480" y="1676520"/>
            <a:ext cx="1143000" cy="7617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ales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nsa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124080" y="1714680"/>
            <a:ext cx="1067040" cy="68580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ag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trans lis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3"/>
            <a:endCxn id="124" idx="2"/>
          </p:cNvCxnSpPr>
          <p:nvPr/>
        </p:nvCxnSpPr>
        <p:spPr>
          <a:xfrm>
            <a:off x="4190760" y="2057040"/>
            <a:ext cx="9910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0T17:44:26Z</dcterms:created>
  <dc:creator>Mark Gibson</dc:creator>
  <dc:description/>
  <dc:language>en-US</dc:language>
  <cp:lastModifiedBy>Nomi Haris</cp:lastModifiedBy>
  <dcterms:modified xsi:type="dcterms:W3CDTF">2005-05-20T05:06:46Z</dcterms:modified>
  <cp:revision>312</cp:revision>
  <dc:subject/>
  <dc:title>Apollo progress</dc:title>
</cp:coreProperties>
</file>